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4D51-7D09-4168-B383-C4029576C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P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RH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ring of the 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ood flow in scarred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canno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: high blood pressure, abdominal swelling, 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EVER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c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est of Alcohol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inge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ge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r more drinks in a sitting for 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r more drinks in a sitting for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Alcohol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unplanned unprotected s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drug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s of Binge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ngers of Binge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ntentional injuries (e.g. car crash, falls, burns, drowning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cohol poison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D’s and/or Unintended pregna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blood pressure, stroke, and other cardiovascular dise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ctors affecting the amount of alcohol in a person’s bl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the amount of alcohol in a person’s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Alcohol (not # of drin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hey we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ime elapses after or between dr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and Driv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FEST AMOUNT OF DRINKS  = 0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t any age!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ST AMOUNT OF DRINKS  = 0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t any age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sequences of teen DU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ing with remor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Alcohol Concent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ount of alcohol in a person’s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gal limit for IL is .08%  for people 21 years old and ol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gal limit for IL is zero for people under 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Alcohol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alcohol in a person’s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limit for IL is .08%  for people 21 years old and 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limit for IL is zero for people under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5% of High School Students report having tried alcohol at least on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8% reported having an alcoholic beverage in the last mon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e students more likely than female students to report episodic heavy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High School Students report having tried alcohol at least o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% reported having an alcoholic beverage in the last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tudents more likely than female students to report episodic heavy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tal confusion, stupor, coma, inability to be excited, vomiting, and seizur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are some things that people do to ‘sober up’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things that people do to ‘sober up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SOBERS A PERSON UP THE FASTEST???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3 Stages of Alcoh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Stages of Alcoh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tage (Stage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lax, relieve s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necessity to manage s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to become intoxicated regul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s excuses and tries to rationalize drinking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ddle Stage (Stage 2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er denies or tries to hide probl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develops toler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equently absent from school or wor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is central event in a persons lif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when alo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first thing in the mor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dai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Stage (Stage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er denies or tries to hid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develops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tly absent from school or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is central event in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when al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first thing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Stage (Stage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son becomes aggressive &amp; isolat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is addic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y to quit=WITHDRAW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*****NO CURE---ONLY RECOVERY*****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Stage (Stage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becomes aggressive &amp; isol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is add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quit=WITHDRAW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**NO CURE---ONLY RECOVERY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n Family and Socie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0% of violent crimes annually are alcohol rel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½ of all homicide victims have alcohol in their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n Family 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 violent crimes annually are alcohol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 of all homicide victims have alcohol in their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lcohol?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cohol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ress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intoxicating substance called ethyl alcohol or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eat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c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t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se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to go for hel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cs Anonymo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ional Association for children of alcoholi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ional drug and treatment referral routing servi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o go 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ics Anonym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Association for children of alcoho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drug and treatment referral routing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lcoho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coh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by a ferment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oz. Beer = 4 oz. Wine = 1 oz. liqu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lcoh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/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piration increases and skin becomes flu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re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/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ch is slurred and difficulty wal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est of Alcohol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only oxidize about 1 serving of alcohol an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WAY to speed up this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REVERSED when drinking st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interferes with body’s ability to break down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REVERSED when drinking s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B67-B78A-484B-BE2C-B7BE07A4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5F5-1169-4C80-A666-48DB272F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1363-F939-458F-8925-B2651F78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2E2-2EF1-4466-A998-59DF677F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6F49-01E5-4CEF-8585-4AD5C5E1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12F6-CF50-4A1D-9CF8-1F259C61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821A-AC51-424D-98F1-8EC48BAB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5558-5EEA-4E52-8E5E-5AC5D629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ADAA-6ED3-47EA-B8B7-CFAF830E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B2B6-1E7B-494F-9FF5-880E7E9F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86AE-59F1-40E9-B3DF-3AA11EAC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94D4-C0E2-4260-A48A-6A18D005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8B6F-CD0B-4532-B384-44F2F321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24CD-357F-4086-A864-1378A56B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8730-8528-48CE-8373-D97D79D8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DDAE-3485-409F-B4D6-129068D7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8503-C5AC-4B8B-92AF-22D7D77D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ED99-7FE5-4F47-B832-54E36A26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43F-9F2A-427A-AF42-E2421F33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852-6977-4738-90C5-3C7E86D8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9D6-EEA9-4CB1-B523-7032C6D3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96D-B26D-4C88-9940-E68092AB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F6C-F8D1-4632-ACCF-D9459678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D34F-980B-4830-9AB0-28790867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D256-F51A-45FB-8D58-BA2481C90E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70FE-A0E3-462E-8264-FE66C0DEE6A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Times New Roman"/>
              </a:rPr>
              <a:t>ALCOHOL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6" name="Picture 3" descr="23035392"/>
          <p:cNvPicPr/>
          <p:nvPr/>
        </p:nvPicPr>
        <p:blipFill>
          <a:blip r:embed="rId1"/>
          <a:stretch/>
        </p:blipFill>
        <p:spPr>
          <a:xfrm>
            <a:off x="380880" y="2895480"/>
            <a:ext cx="3094200" cy="381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A5MRD5"/>
          <p:cNvPicPr/>
          <p:nvPr/>
        </p:nvPicPr>
        <p:blipFill>
          <a:blip r:embed="rId2"/>
          <a:stretch/>
        </p:blipFill>
        <p:spPr>
          <a:xfrm>
            <a:off x="762120" y="152280"/>
            <a:ext cx="1819080" cy="2667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ain1"/>
          <p:cNvPicPr/>
          <p:nvPr/>
        </p:nvPicPr>
        <p:blipFill>
          <a:blip r:embed="rId3"/>
          <a:stretch/>
        </p:blipFill>
        <p:spPr>
          <a:xfrm>
            <a:off x="5105520" y="1752480"/>
            <a:ext cx="335592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4800600" y="6019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LCOPOP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lthy liver"/>
          <p:cNvPicPr/>
          <p:nvPr/>
        </p:nvPicPr>
        <p:blipFill>
          <a:blip r:embed="rId1"/>
          <a:stretch/>
        </p:blipFill>
        <p:spPr>
          <a:xfrm>
            <a:off x="304920" y="838080"/>
            <a:ext cx="4876560" cy="3195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alcoholicliver"/>
          <p:cNvPicPr/>
          <p:nvPr/>
        </p:nvPicPr>
        <p:blipFill>
          <a:blip r:embed="rId2"/>
          <a:stretch/>
        </p:blipFill>
        <p:spPr>
          <a:xfrm>
            <a:off x="5257800" y="380880"/>
            <a:ext cx="3679920" cy="5562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457200" y="41911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ealth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486400" y="60958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lcoholic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inge Drink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Binge Drink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Factors affecting the amount of alcohol in a person’s blood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Drinking and Driv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00"/>
                </a:solidFill>
                <a:latin typeface="Times New Roman"/>
              </a:rPr>
              <a:t>SAFEST AMOUNT OF DRINKS  = 0!!!</a:t>
            </a:r>
            <a:br>
              <a:rPr sz="8800"/>
            </a:br>
            <a:br>
              <a:rPr sz="8800"/>
            </a:b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This is at any age!!!!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Consequences of teen DUI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ing with remorse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lood Alcohol Concentratio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in a person’s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IL is .08%  for people 21 years old and ol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IL is zero for people under 2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723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75% of High School Students report having tried alcohol at least onc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236232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Comic Sans MS"/>
              </a:rPr>
              <a:t>28% reported having an alcoholic beverage in the last mon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457056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Tahoma"/>
              </a:rPr>
              <a:t>Male students more likely than female students to report episodic heavy drinking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ac_(female)3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ac_(male)3"/>
          <p:cNvPicPr/>
          <p:nvPr/>
        </p:nvPicPr>
        <p:blipFill>
          <a:blip r:embed="rId1"/>
          <a:stretch/>
        </p:blipFill>
        <p:spPr>
          <a:xfrm>
            <a:off x="0" y="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Alcohol Poison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ental confusion, stupor, coma, inability to be excited, vomiting, and seizur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are some things that people do to ‘sober up’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SOBERS A PERSON UP THE FASTEST???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coholism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3 Stages of Alcoholism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iddle Stage (Stage 2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er denies or tries to hide probl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ody develops toleranc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requently absent from school or work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ing is central event in a persons lif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when alon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first thing in the mor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dai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Final Stage (Stage 3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erson becomes aggressive &amp; isolate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ody is addict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ry to quit=WITHDRAW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*****NO CURE---ONLY RECOVERY*****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Effects on Family and Society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0% of violent crimes annually are alcohol relate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½ of all homicide victims have alcohol in their bloodstrea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4" descr="j0195872"/>
          <p:cNvPicPr/>
          <p:nvPr/>
        </p:nvPicPr>
        <p:blipFill>
          <a:blip r:embed="rId1"/>
          <a:stretch/>
        </p:blipFill>
        <p:spPr>
          <a:xfrm>
            <a:off x="6477120" y="914400"/>
            <a:ext cx="2438280" cy="35053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69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Where to go for help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Alcoholics Anonymou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ional Association for children of alcoholic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ional drug and treatment referral routing servic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152640" y="1447920"/>
            <a:ext cx="9296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Effects of Alcohol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More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4" descr="j0305551"/>
          <p:cNvPicPr/>
          <p:nvPr/>
        </p:nvPicPr>
        <p:blipFill>
          <a:blip r:embed="rId1"/>
          <a:stretch/>
        </p:blipFill>
        <p:spPr>
          <a:xfrm>
            <a:off x="7086600" y="1295280"/>
            <a:ext cx="1797120" cy="232596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be REVERSED when drinking stop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7:46:11Z</dcterms:created>
  <dc:creator>Nancy</dc:creator>
  <dc:description/>
  <dc:language>en-US</dc:language>
  <cp:lastModifiedBy>LEGION2</cp:lastModifiedBy>
  <cp:lastPrinted>2008-06-19T00:55:33Z</cp:lastPrinted>
  <dcterms:modified xsi:type="dcterms:W3CDTF">2016-01-13T12:49:45Z</dcterms:modified>
  <cp:revision>10</cp:revision>
  <dc:subject/>
  <dc:title>ALCOHOL</dc:title>
</cp:coreProperties>
</file>